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C3D6-11CB-4BC5-AE2E-127542F4E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539A-E3B7-4B22-AB7D-2654612B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E1C2-8BEE-49BB-A126-FB9648DA2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C9FB-E909-466F-96D4-1A178879C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B376-6A3A-4786-B6F0-AD390318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5741-26B7-4A41-9BE0-03CDFFF8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D1B9-2D9A-438E-9BAB-67CC7159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33DC-B745-46F6-BE65-BB1E40B3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FBC0-8E0D-4B44-9BEC-620F2508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6725-0E44-4B3C-9ECE-2564A169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D0C5-E0B9-401B-88A9-C4A430DD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14D6-1AE6-4900-85DB-A523756E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2723-FDA8-442A-9132-B6CBC3D93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c/Pelican_lakes_entrance02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48520" y="5724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File:Pelican lakes entrance0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76320"/>
            <a:ext cx="2666880" cy="1778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276720" y="7632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553080" y="2362320"/>
            <a:ext cx="2590920" cy="1887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0" y="5089680"/>
            <a:ext cx="2666880" cy="1768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6477120" y="5257800"/>
            <a:ext cx="2666880" cy="1150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3124080" y="2438280"/>
            <a:ext cx="2895840" cy="1928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152280" y="2286000"/>
            <a:ext cx="2210040" cy="2209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6477120" y="0"/>
          <a:ext cx="2666880" cy="1846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77120" y="0"/>
                    <a:ext cx="2666880" cy="18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" descr=""/>
          <p:cNvPicPr/>
          <p:nvPr/>
        </p:nvPicPr>
        <p:blipFill>
          <a:blip r:embed="rId11"/>
          <a:stretch/>
        </p:blipFill>
        <p:spPr>
          <a:xfrm>
            <a:off x="3276720" y="5126040"/>
            <a:ext cx="266688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895480" y="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248520" y="5724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00400" y="6480"/>
            <a:ext cx="2743200" cy="1822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200400" y="2666880"/>
            <a:ext cx="2819520" cy="1487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514600" cy="1887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6602400" y="2438280"/>
            <a:ext cx="2541600" cy="1906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6781680" y="0"/>
            <a:ext cx="2362320" cy="1949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0" y="25909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0" y="5037120"/>
            <a:ext cx="2666880" cy="1741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3200400" y="5037120"/>
            <a:ext cx="2716200" cy="1820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459480" y="5037120"/>
            <a:ext cx="268452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6:19:01Z</dcterms:created>
  <dc:creator>Dina Winterton</dc:creator>
  <dc:description/>
  <dc:language>en-US</dc:language>
  <cp:lastModifiedBy>Dina Winterton</cp:lastModifiedBy>
  <dcterms:modified xsi:type="dcterms:W3CDTF">2010-02-08T19:00:10Z</dcterms:modified>
  <cp:revision>11</cp:revision>
  <dc:subject/>
  <dc:title>Slide 1</dc:title>
</cp:coreProperties>
</file>